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662E-3279-4A3B-9E48-651366120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5EBC-8957-4773-A822-54468F574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1E46-7B1F-471B-9EC8-A27421CFE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A3CA-F8A9-43AF-B4CE-D44E6CD31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97F-34E4-4191-AA3C-F0C7531D2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AB49-7D83-442D-BBCF-307FAE02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E388-01F6-473E-AC27-3F74D18B0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7F08-2329-4CCA-BCA2-77DB4F7F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0CDA-90F4-4327-BE7E-24B2C7BD5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4AC3-469C-493F-81A0-47A2C9D5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DE31-9ECA-42D5-9358-7635B64B3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0119-2D76-48AF-9B12-8C305706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2489-4C81-4933-93F8-A99C2722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29F4-F411-40B3-91F8-3BD70A695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06E2-9990-4C13-9D0D-432BB1B8C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A0E5-6A8B-4CA7-9A1C-9F162C3C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DC6-BF8F-45A2-8B1D-77F59FC1A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3D8E-6CE9-4C2F-A3A3-03C899C58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9FBF-EB9B-40E5-BACB-FB9829AB4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2DB-C896-4362-8E12-C31A9DCE6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13FD-0522-4C34-A134-AAEFBD53D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FDED-CD5C-4D5E-9A51-9984B3A8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5293-8A19-429A-B4DB-9861F06DE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F532-6D94-4912-8A9A-43CED4110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AD9E-F506-4516-BB91-6B44F9F4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9043-AC67-42FA-B705-2CD6DE0F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1459-6DDB-447C-9DDD-AECABE5B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7E50-9443-4E2B-94AA-1D3C2F07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296A-1C8A-46D9-B75A-34241D4D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0256-0F3A-48A1-B7E7-91D06F64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0484-7E78-42EB-8F9F-EA444332E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146B-D90E-438D-BE7F-2A5A5642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0A96-978F-436A-8A25-3A35E7B29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AB5F-3C12-418A-99A3-C39AC4DF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642C-E4F6-42E7-B73A-E48B9C1A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75AD-6862-46FE-B82F-3F986E95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60E3-E0EF-420A-85EE-3B107612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07EC-BF9A-44C9-86CB-8040B6EF8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CB44-23A3-4C1A-A429-E63A05E6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2E96-3A06-461C-AFCB-8F7A63616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347A-D80F-40A3-84D5-8F0D3E36E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C60-5B75-485F-9C55-9483C0F20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41F0-D590-446D-905B-0F294566C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7E18-2FE1-4730-8379-6964C7EA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D86-B897-4C1C-9363-F2AA6D4F2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9949-758E-4DBC-80B2-E483BD17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1B18-0E04-4164-A2C0-4E705BE25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170-CC2A-4B9D-B0E6-994297071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171F-CA09-4042-B561-AFC23C5D9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BEBC-7628-407F-B343-ED8A9951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646F-9D2A-4E4A-82ED-B77D84CBA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16C6-486B-40A0-B2C4-11BAF973D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C8DF-586F-40A7-B0F7-B74314A5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9EC1-F59A-486C-B2AD-21EFBACC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FE28-F60B-47D7-AE3B-778365A0F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F362-115D-4805-B0DA-CE5EC5C2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4440" y="671400"/>
            <a:ext cx="785340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 Condensed"/>
              </a:rPr>
              <a:t>JSON</a:t>
            </a:r>
            <a:br>
              <a:rPr sz="8000"/>
            </a:b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Data Transfer Format of the Sta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ouglas Crockf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Yahoo! In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5"/>
          <p:cNvSpPr/>
          <p:nvPr/>
        </p:nvSpPr>
        <p:spPr>
          <a:xfrm>
            <a:off x="620640" y="495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6"/>
          <p:cNvSpPr/>
          <p:nvPr/>
        </p:nvSpPr>
        <p:spPr>
          <a:xfrm>
            <a:off x="992160" y="49212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7"/>
          <p:cNvSpPr/>
          <p:nvPr/>
        </p:nvSpPr>
        <p:spPr>
          <a:xfrm>
            <a:off x="6737400" y="55958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8"/>
          <p:cNvSpPr/>
          <p:nvPr/>
        </p:nvSpPr>
        <p:spPr>
          <a:xfrm>
            <a:off x="7116840" y="7048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16984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ctionScri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 / 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#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ld 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elp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rla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7960" y="16984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er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bjective-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bjective CA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H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yth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eb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u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ch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quea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alu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62" name="Object 6"/>
          <p:cNvGraphicFramePr/>
          <p:nvPr/>
        </p:nvGraphicFramePr>
        <p:xfrm>
          <a:off x="704880" y="1749600"/>
          <a:ext cx="8275680" cy="39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749600"/>
                    <a:ext cx="827568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0 or more Unicode charac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parate character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is represented as a string with a length of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d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quote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slash escap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67" name="Object 9"/>
          <p:cNvGraphicFramePr/>
          <p:nvPr/>
        </p:nvGraphicFramePr>
        <p:xfrm>
          <a:off x="1735200" y="1658880"/>
          <a:ext cx="708660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1658880"/>
                    <a:ext cx="70866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ctal or h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fi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umb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72" name="Object 20"/>
          <p:cNvGraphicFramePr/>
          <p:nvPr/>
        </p:nvGraphicFramePr>
        <p:xfrm>
          <a:off x="465120" y="2378160"/>
          <a:ext cx="821232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378160"/>
                    <a:ext cx="821232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that isn't anyt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unordered containers of key/value pai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wrapped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s key/value pai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s keys and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 are string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JSON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, record, hashtable,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ata Interchang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idea in Aja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ive to page replac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delivered as pa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data be deliver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81" name="Object 8"/>
          <p:cNvGraphicFramePr/>
          <p:nvPr/>
        </p:nvGraphicFramePr>
        <p:xfrm>
          <a:off x="617400" y="2936880"/>
          <a:ext cx="799164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36880"/>
                    <a:ext cx="799164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92000" y="1839960"/>
            <a:ext cx="7772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name":     "Jack B. Nimble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at large": tr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grade":    "A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ormat":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ype":      "rect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idth":     192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height":    108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nterlace": fal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ramerate":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are ordered sequences of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are wrapped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s valu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does not talk about index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lementation can start array indexing at 0 or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452520" y="2874960"/>
          <a:ext cx="82389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2874960"/>
                    <a:ext cx="8238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"Sunday", "Monday", "Tuesday", "Wednesday", "Thursday", "Friday", "Saturday"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0, -1, 0]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1, 0, 0]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0, 0, 1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rrays vs Objec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bjects when the key names are arbitrary string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rrays when the key names are sequential integ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get confused by the term Associative Arr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SON decoder must accept all well-formed JSON tex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SON decoder may also accept non-JSON tex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SON encoder must only produce well-formed JSON tex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 conservative in what you do, be liberal in what you accept from other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IME Media Typ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39600" y="3886200"/>
            <a:ext cx="7237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"/>
              </a:rPr>
              <a:t>application/js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 in 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Delive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data is built into the p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tml&gt;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scrip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data = </a:t>
            </a: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{ ... JSONdata ... 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 in 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Http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ponse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ponse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ponseData = eval(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(' + </a:t>
            </a:r>
            <a:r>
              <a:rPr b="1" lang="en-US" sz="2000" spc="-1" strike="noStrike">
                <a:solidFill>
                  <a:srgbClr val="0039e5"/>
                </a:solidFill>
                <a:latin typeface="Courier New"/>
              </a:rPr>
              <a:t>responseTex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')'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ponseData =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9e5"/>
                </a:solidFill>
                <a:latin typeface="Courier New"/>
              </a:rPr>
              <a:t>responseTex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parseJSON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story of Data Forma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Languag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 in 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iframe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data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m.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iframe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rg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rver sends the JSON text embedded in a script in a docu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tml&gt;&lt;head&gt;&lt;scrip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cument.domain = 'penzance.com'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ent.deliver</a:t>
            </a: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({ ... JSONtext ... 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script&gt;&lt;/head&gt;&lt;/html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assed the valu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 in 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script tag ha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cript node.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l makes the reque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rver sends the JSON text embedded in a scrip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iver</a:t>
            </a: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({ ... JSONtext ... 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assed the valu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e5"/>
                </a:solidFill>
                <a:latin typeface="Arial"/>
              </a:rPr>
              <a:t>The dynamic script tag hack is insecur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Reques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facil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ay data interchange between any page and any serv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t from the Same Origin Polic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aign to make a standard feature of all brows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://www.JSON.org/JSONRequest.ht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CMAScript Fourth Ed.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ethod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.prototype.toJSON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.prototype.toJSON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.prototype.parseJ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now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SON.org/json.j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safe to 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XMLHttpReque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ON data comes from the same server that vended the page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ta is no less secure than the original htm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 doubt, use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parseJ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ver trust the cli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 cannot and will not keep our secrets and cannot and will not protect our interes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rust machines not under your absolute contro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rver must validate everything the client tells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pla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698120"/>
            <a:ext cx="7772400" cy="500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r template = '&lt;table border="</a:t>
            </a:r>
            <a:r>
              <a:rPr b="1" lang="en-US" sz="2200" spc="-1" strike="noStrike">
                <a:solidFill>
                  <a:srgbClr val="0039e5"/>
                </a:solidFill>
                <a:latin typeface="Courier New"/>
              </a:rPr>
              <a:t>{border}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&gt;' +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&lt;tr&gt;&lt;th&gt;Last&lt;/th&gt;&lt;td&gt;</a:t>
            </a:r>
            <a:r>
              <a:rPr b="1" lang="en-US" sz="2200" spc="-1" strike="noStrike">
                <a:solidFill>
                  <a:srgbClr val="0039e5"/>
                </a:solidFill>
                <a:latin typeface="Courier New"/>
              </a:rPr>
              <a:t>{last}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td&gt;&lt;/tr&gt;' +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&lt;tr&gt;&lt;th&gt;First&lt;/th&gt;&lt;td&gt;</a:t>
            </a:r>
            <a:r>
              <a:rPr b="1" lang="en-US" sz="2200" spc="-1" strike="noStrike">
                <a:solidFill>
                  <a:srgbClr val="0039e5"/>
                </a:solidFill>
                <a:latin typeface="Courier New"/>
              </a:rPr>
              <a:t>{first}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td&gt;&lt;/tr&gt;' +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&lt;/table&gt;'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data = </a:t>
            </a: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"first":  "Carl"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"last":   "Hollywood"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"border":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e5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div.innerHTML = template.supplant(data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pla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.prototype.supplant = function (o) {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his.replace(/{([^{}]*)}/g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ction (a, b) {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r = o[b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of r == 'string' 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 : a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 rules = {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f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'&lt;svg&gt;&lt;</a:t>
            </a:r>
            <a:r>
              <a:rPr b="1" lang="en-US" sz="1600" spc="-1" strike="noStrike">
                <a:solidFill>
                  <a:srgbClr val="0039e5"/>
                </a:solidFill>
                <a:latin typeface="Courier New"/>
              </a:rPr>
              <a:t>{closed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oke="</a:t>
            </a:r>
            <a:r>
              <a:rPr b="1" lang="en-US" sz="1600" spc="-1" strike="noStrike">
                <a:solidFill>
                  <a:srgbClr val="0039e5"/>
                </a:solidFill>
                <a:latin typeface="Courier New"/>
              </a:rPr>
              <a:t>{color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 points="</a:t>
            </a:r>
            <a:r>
              <a:rPr b="1" lang="en-US" sz="1600" spc="-1" strike="noStrike">
                <a:solidFill>
                  <a:srgbClr val="0039e5"/>
                </a:solidFill>
                <a:latin typeface="Courier New"/>
              </a:rPr>
              <a:t>{points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 /&gt;&lt;/svg&gt;'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d: function (x) {return x ? 'polygon' : 'polyline';}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'points[*][*]': '</a:t>
            </a:r>
            <a:r>
              <a:rPr b="1" lang="en-US" sz="1600" spc="-1" strike="noStrike">
                <a:solidFill>
                  <a:srgbClr val="ccffcc"/>
                </a:solidFill>
                <a:latin typeface="Courier New"/>
              </a:rPr>
              <a:t>{$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'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 data =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olor":  "blue"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losed": true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points": [[10,10], [20,10], [20,20], [10,20]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sonT(data, rule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e5"/>
                </a:solidFill>
                <a:latin typeface="Courier New"/>
              </a:rPr>
              <a:t>&lt;svg&gt;&lt;polygon stroke="blue"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e5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9e5"/>
                </a:solidFill>
                <a:latin typeface="Courier New"/>
              </a:rPr>
              <a:t>points="10 10 20 10 20 20 10 20 " /&gt;&lt;/svg&gt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ttp://goessner.net/articles/jsont/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unction jsonT(self, rules) {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ar T =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output: false,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nit: function ()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or (var rule in rules) if (rule.substr(0,4) != "self") rules["self." + rule] = rules[rule]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this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,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pply: function(expr)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ar trf = function (s)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s.replace(/{([A-Za-z0-9_\$\.\[\]\'@\(\)]+)}/g, function ($0, $1){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T.processArg($1, expr);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,  x = expr.replace(/\[[0-9]+\]/g, "[*]"),  res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f (x in rules)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f (typeof(rules[x]) == "string") res = trf(rules[x])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else if (typeof(rules[x]) == "function") res = trf(rules[x](eval(expr)).toString())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 else res = T.eval(expr)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res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,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rocessArg: function (arg, parentExpr)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ar expand = function (a, e) {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(e = a.replace(/^\$/,e)).substr(0, 4) != "self" ? ("self." + e) : e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,  res = ""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T.output = true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f (arg.charAt(0) == "@") res = eval(arg.replace(/@([A-za-z0-9_]+)\(([A-Za-z0-9_\$\.\[\]\']+)\)/, function($0, $1, $2){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"rules['self." + $1 + "'](" + expand($2,parentExpr) + ")";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))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else if (arg != "$") res = T.apply(expand(arg, parentExpr))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else res = T.eval(parentExpr)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T.output = false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res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,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eval: function (expr)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ar v = eval(expr), res = "";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f (typeof(v) != "undefined")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if (v instanceof Array)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or (var i = 0; i &lt; v.length; i++) if (typeof(v[i]) != "undefined") res += T.apply(expr + "[" + i + "]")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 else if (typeof(v) == "object") {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or (var m in v) if (typeof(v[m]) != "undefined") res += T.apply(expr+"."+m)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 else if (T.output) res += v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res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turn T.init().apply("self");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Object No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t of JavaScri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ome features that make </a:t>
            </a:r>
            <a:r>
              <a:rPr b="0" i="1" lang="en-US" sz="4000" spc="-1" strike="noStrike">
                <a:solidFill>
                  <a:srgbClr val="0039e5"/>
                </a:solidFill>
                <a:latin typeface="Tw Cen MT Condensed"/>
              </a:rPr>
              <a:t>it</a:t>
            </a:r>
            <a:r>
              <a:rPr b="0" lang="en-US" sz="4000" spc="-1" strike="noStrike">
                <a:solidFill>
                  <a:srgbClr val="0039e5"/>
                </a:solidFill>
                <a:latin typeface="Tw Cen MT Condense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well-suited for data transfer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8732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's simultaneously human- and machine-readable format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support for Unicode, allowing almost any information in any human language to be communicated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f-documenting format that describes structure and field names as well as specific values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ict syntax and parsing requirements that allow the necessary parsing algorithms to remain simple, efficient, and consiste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represent the most general computer science data structures: records, lists and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 Looks Like Dat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N's simple values are the same as used in programming langua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tructuring is required: JSON's structures look like conventional programming language struct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N's </a:t>
            </a: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cord, struct, object, dictionary, hash, associate array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N's </a:t>
            </a: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rray, vector, sequence, list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rguments against JS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Doesn't Have Namespac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Has No Validat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Is Not Extensi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Is Not XM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JSON Doesn't Have Namespace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bject is a namespace. Its set of keys is independent of all other objects, even exclusive of nest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uses 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void ambiguity, just as programming languages d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w3c.org/TR/REC-xml-names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, there are three occurrences of the name </a:t>
            </a:r>
            <a:r>
              <a:rPr b="0" lang="en-US" sz="2000" spc="-1" strike="noStrike">
                <a:solidFill>
                  <a:srgbClr val="0039e5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the markup, and the name alone clearly provides insufficient information to allow correct processing by a software modu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ection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Book-Signing Event&lt;/</a:t>
            </a:r>
            <a:r>
              <a:rPr b="1" lang="en-US" sz="18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igning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uthor </a:t>
            </a:r>
            <a:r>
              <a:rPr b="1" lang="en-US" sz="18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"Mr" name="Vikram Seth" /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ok </a:t>
            </a:r>
            <a:r>
              <a:rPr b="1" lang="en-US" sz="18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"A Suitable Boy" price="$22.95" /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igning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igning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uthor </a:t>
            </a:r>
            <a:r>
              <a:rPr b="1" lang="en-US" sz="18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"Dr" name="Oliver Sacks" /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ok </a:t>
            </a:r>
            <a:r>
              <a:rPr b="1" lang="en-US" sz="18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"The Island of the Color-Blind"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ce="$12.95" /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igning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ection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698480"/>
            <a:ext cx="7772400" cy="54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"section"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6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: "Book-Signing Event"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igning": [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author": { "</a:t>
            </a:r>
            <a:r>
              <a:rPr b="1" lang="en-US" sz="16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: "Mr", "name": "Vikram Seth" }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ook": { "</a:t>
            </a:r>
            <a:r>
              <a:rPr b="1" lang="en-US" sz="16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: "A Suitable Boy"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price": "$22.95"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,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author": { "</a:t>
            </a:r>
            <a:r>
              <a:rPr b="1" lang="en-US" sz="16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: "Dr", "name": "Oliver Sacks" }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ook": { "</a:t>
            </a:r>
            <a:r>
              <a:rPr b="1" lang="en-US" sz="1600" spc="-1" strike="noStrike">
                <a:solidFill>
                  <a:srgbClr val="0039e5"/>
                </a:solidFill>
                <a:latin typeface="Courier New"/>
              </a:rPr>
              <a:t>tit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: "The Island of the Color-Blind"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price": "$12.95"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ction.tit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ction.signing[0].author.tit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ction.signing[1].book.tit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 Has No Validato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well-formed and valid is not the same as being correct and relev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, every application is responsible for validating its inputs. This cannot be delega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AML validator can be us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 is Not Extensib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need to b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represent any non-recurrent data structure as 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is flexible. New fields can be added to existing structures without obsoleting existing progra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ersionles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has no version numb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visions to the JSON grammar are anticipa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is very s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perse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ML is a superset of JS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YAML decoder is a JSON deco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is a superset of JS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avaScript compiler is a JSON deco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IC is a programming language based on JS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et of ECMA-262 Third Edi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Independ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-bas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-wei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par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 Is Not XM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600200"/>
            <a:ext cx="3876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5800" y="1828800"/>
            <a:ext cx="3876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75240" y="1585800"/>
            <a:ext cx="3876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tribute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![CDATA[ ]]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yle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ame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ata Interchang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is a simple, common representation of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between servers and browser cli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between pe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independent data interchan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y the Name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is not a good data serialization format, but it is a document standar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a standard to refer to eliminates a lot of squabbl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Li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SLint can help improve the robustness and portability of your program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nforces style rul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spot some errors that are very difficult to find in debugging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help eliminate implied global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ly available on the web and as a Konfabulator widge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n, in text editors and Eclip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Li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: JSLint will hurt your feeling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follow its advice, JSLint will make your programs bet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JSLint.com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ww.JSON.or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55" name="Picture 6" descr="json160"/>
          <p:cNvPicPr/>
          <p:nvPr/>
        </p:nvPicPr>
        <p:blipFill>
          <a:blip r:embed="rId1"/>
          <a:stretch/>
        </p:blipFill>
        <p:spPr>
          <a:xfrm>
            <a:off x="4495680" y="422928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 Is Not...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is not a document forma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is not a markup langu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N is not a general serialization forma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cursive/recurring struct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visible struct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ECMAScript Third Ed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 State Software, In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 JSON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 Aj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bject Quasi-Literal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tonScri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hine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ngl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re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r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tali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Japane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Kore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json160"/>
          <p:cNvPicPr/>
          <p:nvPr/>
        </p:nvPicPr>
        <p:blipFill>
          <a:blip r:embed="rId1"/>
          <a:stretch/>
        </p:blipFill>
        <p:spPr>
          <a:xfrm>
            <a:off x="5773680" y="242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7:31:40Z</dcterms:created>
  <dc:creator>Douglas Crockford</dc:creator>
  <dc:description/>
  <dc:language>en-US</dc:language>
  <cp:lastModifiedBy>Giuseppe Attardi</cp:lastModifiedBy>
  <dcterms:modified xsi:type="dcterms:W3CDTF">2016-04-18T09:06:45Z</dcterms:modified>
  <cp:revision>391</cp:revision>
  <dc:subject/>
  <dc:title>JavaScript</dc:title>
</cp:coreProperties>
</file>